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46F5-DE0D-46F9-8B6F-AFCBD3BA1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ho is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tan Hatfield and Ken Pinzk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kes no sense without caption in boo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2514600" y="1087560"/>
            <a:ext cx="4714560" cy="5236200"/>
            <a:chOff x="2514600" y="1087560"/>
            <a:chExt cx="4714560" cy="5236200"/>
          </a:xfrm>
        </p:grpSpPr>
        <p:sp>
          <p:nvSpPr>
            <p:cNvPr id="86" name=""/>
            <p:cNvSpPr/>
            <p:nvPr/>
          </p:nvSpPr>
          <p:spPr>
            <a:xfrm>
              <a:off x="3098520" y="5243040"/>
              <a:ext cx="3362040" cy="10807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2514600" y="1087560"/>
              <a:ext cx="4714560" cy="471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1295280"/>
            <a:ext cx="71247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ucida Bright"/>
              </a:rPr>
              <a:t>Prentice</a:t>
            </a:r>
            <a:r>
              <a:rPr b="0" i="1" lang="en-US" sz="4800" spc="-1" strike="noStrike">
                <a:solidFill>
                  <a:srgbClr val="000000"/>
                </a:solidFill>
                <a:latin typeface="Lucida Bright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Lucida Bright"/>
              </a:rPr>
              <a:t>Hall</a:t>
            </a: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EARTH SCIENC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28480" y="518148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arbuck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Lutgen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41120" y="53481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Wingdings"/>
                <a:ea typeface="Wingdings"/>
              </a:rPr>
              <a:t>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105520" y="-360"/>
            <a:ext cx="4068360" cy="3305160"/>
            <a:chOff x="5105520" y="-360"/>
            <a:chExt cx="4068360" cy="3305160"/>
          </a:xfrm>
        </p:grpSpPr>
        <p:sp>
          <p:nvSpPr>
            <p:cNvPr id="92" name=""/>
            <p:cNvSpPr/>
            <p:nvPr/>
          </p:nvSpPr>
          <p:spPr>
            <a:xfrm rot="10800000">
              <a:off x="5119200" y="-360"/>
              <a:ext cx="4054680" cy="3305160"/>
            </a:xfrm>
            <a:custGeom>
              <a:avLst/>
              <a:gdLst/>
              <a:ahLst/>
              <a:rect l="l" t="t" r="r" b="b"/>
              <a:pathLst>
                <a:path w="2554" h="2082">
                  <a:moveTo>
                    <a:pt x="9" y="0"/>
                  </a:moveTo>
                  <a:cubicBezTo>
                    <a:pt x="9" y="82"/>
                    <a:pt x="0" y="1927"/>
                    <a:pt x="9" y="2073"/>
                  </a:cubicBezTo>
                  <a:cubicBezTo>
                    <a:pt x="986" y="2073"/>
                    <a:pt x="2436" y="2082"/>
                    <a:pt x="2554" y="2073"/>
                  </a:cubicBezTo>
                  <a:cubicBezTo>
                    <a:pt x="409" y="1809"/>
                    <a:pt x="9" y="391"/>
                    <a:pt x="9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0800000">
              <a:off x="5105520" y="14040"/>
              <a:ext cx="4054320" cy="1342800"/>
            </a:xfrm>
            <a:custGeom>
              <a:avLst/>
              <a:gdLst/>
              <a:ahLst/>
              <a:rect l="l" t="t" r="r" b="b"/>
              <a:pathLst>
                <a:path w="2554" h="2082">
                  <a:moveTo>
                    <a:pt x="9" y="0"/>
                  </a:moveTo>
                  <a:cubicBezTo>
                    <a:pt x="9" y="82"/>
                    <a:pt x="0" y="1927"/>
                    <a:pt x="9" y="2073"/>
                  </a:cubicBezTo>
                  <a:cubicBezTo>
                    <a:pt x="986" y="2073"/>
                    <a:pt x="2436" y="2082"/>
                    <a:pt x="2554" y="2073"/>
                  </a:cubicBezTo>
                  <a:cubicBezTo>
                    <a:pt x="409" y="1809"/>
                    <a:pt x="9" y="391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0008"/>
                </a:gs>
                <a:gs pos="100000">
                  <a:srgbClr val="fe3d4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0" y="3546360"/>
            <a:ext cx="4054320" cy="3311640"/>
            <a:chOff x="0" y="3546360"/>
            <a:chExt cx="4054320" cy="3311640"/>
          </a:xfrm>
        </p:grpSpPr>
        <p:sp>
          <p:nvSpPr>
            <p:cNvPr id="95" name=""/>
            <p:cNvSpPr/>
            <p:nvPr/>
          </p:nvSpPr>
          <p:spPr>
            <a:xfrm>
              <a:off x="0" y="3546360"/>
              <a:ext cx="4054320" cy="3305160"/>
            </a:xfrm>
            <a:custGeom>
              <a:avLst/>
              <a:gdLst/>
              <a:ahLst/>
              <a:rect l="l" t="t" r="r" b="b"/>
              <a:pathLst>
                <a:path w="2554" h="2082">
                  <a:moveTo>
                    <a:pt x="9" y="0"/>
                  </a:moveTo>
                  <a:cubicBezTo>
                    <a:pt x="9" y="82"/>
                    <a:pt x="0" y="1927"/>
                    <a:pt x="9" y="2073"/>
                  </a:cubicBezTo>
                  <a:cubicBezTo>
                    <a:pt x="986" y="2073"/>
                    <a:pt x="2436" y="2082"/>
                    <a:pt x="2554" y="2073"/>
                  </a:cubicBezTo>
                  <a:cubicBezTo>
                    <a:pt x="409" y="1809"/>
                    <a:pt x="9" y="391"/>
                    <a:pt x="9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5514840"/>
              <a:ext cx="4054320" cy="1343160"/>
            </a:xfrm>
            <a:custGeom>
              <a:avLst/>
              <a:gdLst/>
              <a:ahLst/>
              <a:rect l="l" t="t" r="r" b="b"/>
              <a:pathLst>
                <a:path w="2554" h="2082">
                  <a:moveTo>
                    <a:pt x="9" y="0"/>
                  </a:moveTo>
                  <a:cubicBezTo>
                    <a:pt x="9" y="82"/>
                    <a:pt x="0" y="1927"/>
                    <a:pt x="9" y="2073"/>
                  </a:cubicBezTo>
                  <a:cubicBezTo>
                    <a:pt x="986" y="2073"/>
                    <a:pt x="2436" y="2082"/>
                    <a:pt x="2554" y="2073"/>
                  </a:cubicBezTo>
                  <a:cubicBezTo>
                    <a:pt x="409" y="1809"/>
                    <a:pt x="9" y="391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e3d43"/>
                </a:gs>
                <a:gs pos="100000">
                  <a:srgbClr val="ff00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205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207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210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ondwana and th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inental Landmas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57200" y="1681200"/>
            <a:ext cx="8229600" cy="4781520"/>
            <a:chOff x="457200" y="1681200"/>
            <a:chExt cx="8229600" cy="4781520"/>
          </a:xfrm>
        </p:grpSpPr>
        <p:sp>
          <p:nvSpPr>
            <p:cNvPr id="214" name=""/>
            <p:cNvSpPr/>
            <p:nvPr/>
          </p:nvSpPr>
          <p:spPr>
            <a:xfrm>
              <a:off x="457200" y="1681200"/>
              <a:ext cx="8229600" cy="4781520"/>
            </a:xfrm>
            <a:prstGeom prst="roundRect">
              <a:avLst>
                <a:gd name="adj" fmla="val 1352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1"/>
            <a:stretch/>
          </p:blipFill>
          <p:spPr>
            <a:xfrm>
              <a:off x="822240" y="2197080"/>
              <a:ext cx="7499520" cy="3749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-15840" y="0"/>
            <a:ext cx="9159840" cy="6629400"/>
            <a:chOff x="-15840" y="0"/>
            <a:chExt cx="9159840" cy="6629400"/>
          </a:xfrm>
        </p:grpSpPr>
        <p:grpSp>
          <p:nvGrpSpPr>
            <p:cNvPr id="217" name=""/>
            <p:cNvGrpSpPr/>
            <p:nvPr/>
          </p:nvGrpSpPr>
          <p:grpSpPr>
            <a:xfrm>
              <a:off x="304920" y="1523880"/>
              <a:ext cx="8534160" cy="5105520"/>
              <a:chOff x="304920" y="1523880"/>
              <a:chExt cx="8534160" cy="5105520"/>
            </a:xfrm>
          </p:grpSpPr>
          <p:sp>
            <p:nvSpPr>
              <p:cNvPr id="218" name=""/>
              <p:cNvSpPr/>
              <p:nvPr/>
            </p:nvSpPr>
            <p:spPr>
              <a:xfrm>
                <a:off x="30492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009800" y="1638360"/>
                <a:ext cx="3161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Early Paleozoic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-15840" y="0"/>
              <a:ext cx="9159840" cy="1430280"/>
              <a:chOff x="-15840" y="0"/>
              <a:chExt cx="9159840" cy="1430280"/>
            </a:xfrm>
          </p:grpSpPr>
          <p:sp>
            <p:nvSpPr>
              <p:cNvPr id="221" name=""/>
              <p:cNvSpPr/>
              <p:nvPr/>
            </p:nvSpPr>
            <p:spPr>
              <a:xfrm>
                <a:off x="-936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-15840" y="0"/>
                <a:ext cx="9159840" cy="136440"/>
                <a:chOff x="-15840" y="0"/>
                <a:chExt cx="9159840" cy="1364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-158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-158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-7920" y="1219320"/>
                <a:ext cx="9144000" cy="210960"/>
                <a:chOff x="-7920" y="1219320"/>
                <a:chExt cx="9144000" cy="2109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-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-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d600"/>
                </a:solidFill>
                <a:latin typeface="Arial"/>
                <a:ea typeface="Times New Roman"/>
              </a:rPr>
              <a:t>13.2</a:t>
            </a:r>
            <a:r>
              <a:rPr b="1" lang="en-US" sz="4300" spc="-1" strike="noStrike">
                <a:solidFill>
                  <a:srgbClr val="ffffff"/>
                </a:solidFill>
                <a:latin typeface="Arial"/>
                <a:ea typeface="Times New Roman"/>
              </a:rPr>
              <a:t>  Paleozoic Era: Life Explodes   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60360" y="21510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1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arly Paleozoic Li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1736640" y="2654280"/>
            <a:ext cx="709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fe in early Paleozoic time was restricted to the se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232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237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1276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ife in the Ordovician Peri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523880"/>
            <a:ext cx="8229600" cy="5105520"/>
            <a:chOff x="457200" y="1523880"/>
            <a:chExt cx="8229600" cy="5105520"/>
          </a:xfrm>
        </p:grpSpPr>
        <p:sp>
          <p:nvSpPr>
            <p:cNvPr id="241" name=""/>
            <p:cNvSpPr/>
            <p:nvPr/>
          </p:nvSpPr>
          <p:spPr>
            <a:xfrm>
              <a:off x="457200" y="1523880"/>
              <a:ext cx="8229600" cy="5105520"/>
            </a:xfrm>
            <a:prstGeom prst="roundRect">
              <a:avLst>
                <a:gd name="adj" fmla="val 1352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42" name="" descr=""/>
            <p:cNvPicPr/>
            <p:nvPr/>
          </p:nvPicPr>
          <p:blipFill>
            <a:blip r:embed="rId1"/>
            <a:stretch/>
          </p:blipFill>
          <p:spPr>
            <a:xfrm>
              <a:off x="1273320" y="2232000"/>
              <a:ext cx="6597360" cy="3687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-15840" y="0"/>
            <a:ext cx="9159840" cy="6629400"/>
            <a:chOff x="-15840" y="0"/>
            <a:chExt cx="9159840" cy="6629400"/>
          </a:xfrm>
        </p:grpSpPr>
        <p:grpSp>
          <p:nvGrpSpPr>
            <p:cNvPr id="244" name=""/>
            <p:cNvGrpSpPr/>
            <p:nvPr/>
          </p:nvGrpSpPr>
          <p:grpSpPr>
            <a:xfrm>
              <a:off x="304920" y="1523880"/>
              <a:ext cx="8534160" cy="5105520"/>
              <a:chOff x="304920" y="1523880"/>
              <a:chExt cx="8534160" cy="5105520"/>
            </a:xfrm>
          </p:grpSpPr>
          <p:sp>
            <p:nvSpPr>
              <p:cNvPr id="245" name=""/>
              <p:cNvSpPr/>
              <p:nvPr/>
            </p:nvSpPr>
            <p:spPr>
              <a:xfrm>
                <a:off x="30492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009800" y="1638360"/>
                <a:ext cx="300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Late Paleozoic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-15840" y="0"/>
              <a:ext cx="9159840" cy="1430280"/>
              <a:chOff x="-15840" y="0"/>
              <a:chExt cx="9159840" cy="1430280"/>
            </a:xfrm>
          </p:grpSpPr>
          <p:sp>
            <p:nvSpPr>
              <p:cNvPr id="248" name=""/>
              <p:cNvSpPr/>
              <p:nvPr/>
            </p:nvSpPr>
            <p:spPr>
              <a:xfrm>
                <a:off x="-936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49" name=""/>
              <p:cNvGrpSpPr/>
              <p:nvPr/>
            </p:nvGrpSpPr>
            <p:grpSpPr>
              <a:xfrm>
                <a:off x="-15840" y="0"/>
                <a:ext cx="9159840" cy="136440"/>
                <a:chOff x="-15840" y="0"/>
                <a:chExt cx="9159840" cy="13644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-158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-158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-7920" y="1219320"/>
                <a:ext cx="9144000" cy="210960"/>
                <a:chOff x="-7920" y="1219320"/>
                <a:chExt cx="9144000" cy="21096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-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-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d600"/>
                </a:solidFill>
                <a:latin typeface="Arial"/>
                <a:ea typeface="Times New Roman"/>
              </a:rPr>
              <a:t>13.2 </a:t>
            </a:r>
            <a:r>
              <a:rPr b="1" lang="en-US" sz="4300" spc="-1" strike="noStrike">
                <a:solidFill>
                  <a:srgbClr val="ffffff"/>
                </a:solidFill>
                <a:latin typeface="Arial"/>
                <a:ea typeface="Times New Roman"/>
              </a:rPr>
              <a:t> Paleozoic Era: Life Explodes   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60360" y="21510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1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te Paleozoic His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1736640" y="265428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uras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continental mass that formed the northern portion of Pangaea, consisting of present-day North America and Euras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1736640" y="377820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y the end of the Paleozoic, all the continents had fused into the supercontinent of Panga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260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262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21276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ate Paleozoic Plate Mov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309760" y="1523880"/>
            <a:ext cx="4524480" cy="5105520"/>
            <a:chOff x="2309760" y="1523880"/>
            <a:chExt cx="4524480" cy="5105520"/>
          </a:xfrm>
        </p:grpSpPr>
        <p:sp>
          <p:nvSpPr>
            <p:cNvPr id="269" name=""/>
            <p:cNvSpPr/>
            <p:nvPr/>
          </p:nvSpPr>
          <p:spPr>
            <a:xfrm>
              <a:off x="2309760" y="1523880"/>
              <a:ext cx="4524480" cy="5105520"/>
            </a:xfrm>
            <a:custGeom>
              <a:avLst/>
              <a:gdLst>
                <a:gd name="textAreaLeft" fmla="*/ 179280 w 4524480"/>
                <a:gd name="textAreaRight" fmla="*/ 4345200 w 4524480"/>
                <a:gd name="textAreaTop" fmla="*/ 179280 h 5105520"/>
                <a:gd name="textAreaBottom" fmla="*/ 4926240 h 5105520"/>
              </a:gdLst>
              <a:ahLst/>
              <a:rect l="textAreaLeft" t="textAreaTop" r="textAreaRight" b="textAreaBottom"/>
              <a:pathLst>
                <a:path w="21600" h="24374">
                  <a:moveTo>
                    <a:pt x="2922" y="0"/>
                  </a:moveTo>
                  <a:arcTo wR="2922" hR="2922" stAng="16200000" swAng="-5400000"/>
                  <a:lnTo>
                    <a:pt x="0" y="21452"/>
                  </a:lnTo>
                  <a:arcTo wR="2922" hR="2922" stAng="10800000" swAng="-5400000"/>
                  <a:lnTo>
                    <a:pt x="18678" y="24374"/>
                  </a:lnTo>
                  <a:arcTo wR="2922" hR="2922" stAng="5400000" swAng="-5400000"/>
                  <a:lnTo>
                    <a:pt x="21600" y="2922"/>
                  </a:lnTo>
                  <a:arcTo wR="2922" hR="2922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70" name="" descr=""/>
            <p:cNvPicPr/>
            <p:nvPr/>
          </p:nvPicPr>
          <p:blipFill>
            <a:blip r:embed="rId1"/>
            <a:stretch/>
          </p:blipFill>
          <p:spPr>
            <a:xfrm>
              <a:off x="2852640" y="1784520"/>
              <a:ext cx="3440160" cy="458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-15840" y="0"/>
            <a:ext cx="9159840" cy="6629400"/>
            <a:chOff x="-15840" y="0"/>
            <a:chExt cx="9159840" cy="6629400"/>
          </a:xfrm>
        </p:grpSpPr>
        <p:grpSp>
          <p:nvGrpSpPr>
            <p:cNvPr id="272" name=""/>
            <p:cNvGrpSpPr/>
            <p:nvPr/>
          </p:nvGrpSpPr>
          <p:grpSpPr>
            <a:xfrm>
              <a:off x="304920" y="1523880"/>
              <a:ext cx="8534160" cy="5105520"/>
              <a:chOff x="304920" y="1523880"/>
              <a:chExt cx="8534160" cy="5105520"/>
            </a:xfrm>
          </p:grpSpPr>
          <p:sp>
            <p:nvSpPr>
              <p:cNvPr id="273" name=""/>
              <p:cNvSpPr/>
              <p:nvPr/>
            </p:nvSpPr>
            <p:spPr>
              <a:xfrm>
                <a:off x="30492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009800" y="1638360"/>
                <a:ext cx="3003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Late Paleozoic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-15840" y="0"/>
              <a:ext cx="9159840" cy="1430280"/>
              <a:chOff x="-15840" y="0"/>
              <a:chExt cx="9159840" cy="1430280"/>
            </a:xfrm>
          </p:grpSpPr>
          <p:sp>
            <p:nvSpPr>
              <p:cNvPr id="276" name=""/>
              <p:cNvSpPr/>
              <p:nvPr/>
            </p:nvSpPr>
            <p:spPr>
              <a:xfrm>
                <a:off x="-936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-15840" y="0"/>
                <a:ext cx="9159840" cy="136440"/>
                <a:chOff x="-15840" y="0"/>
                <a:chExt cx="9159840" cy="1364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-158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-158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-7920" y="1219320"/>
                <a:ext cx="9144000" cy="210960"/>
                <a:chOff x="-7920" y="1219320"/>
                <a:chExt cx="9144000" cy="21096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-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-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d600"/>
                </a:solidFill>
                <a:latin typeface="Arial"/>
                <a:ea typeface="Times New Roman"/>
              </a:rPr>
              <a:t>13.2 </a:t>
            </a:r>
            <a:r>
              <a:rPr b="1" lang="en-US" sz="4300" spc="-1" strike="noStrike">
                <a:solidFill>
                  <a:srgbClr val="ffffff"/>
                </a:solidFill>
                <a:latin typeface="Arial"/>
                <a:ea typeface="Times New Roman"/>
              </a:rPr>
              <a:t> Paleozoic Era: Life Explodes   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260360" y="21510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1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te Paleozoic Li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"/>
          <p:cNvSpPr/>
          <p:nvPr/>
        </p:nvSpPr>
        <p:spPr>
          <a:xfrm>
            <a:off x="1736640" y="2630520"/>
            <a:ext cx="680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me 400 million years ago, plants that had adapted to survive at the water’s edge began to move inland, becoming land pla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1736640" y="3778200"/>
            <a:ext cx="687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amphibians rapidly diversified because they had minimal competition from other land dwell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288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290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293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21276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rmor-Plated Fi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" y="1951200"/>
            <a:ext cx="8229600" cy="4089240"/>
            <a:chOff x="457200" y="1951200"/>
            <a:chExt cx="8229600" cy="4089240"/>
          </a:xfrm>
        </p:grpSpPr>
        <p:sp>
          <p:nvSpPr>
            <p:cNvPr id="297" name=""/>
            <p:cNvSpPr/>
            <p:nvPr/>
          </p:nvSpPr>
          <p:spPr>
            <a:xfrm>
              <a:off x="457200" y="1951200"/>
              <a:ext cx="8229600" cy="4089240"/>
            </a:xfrm>
            <a:prstGeom prst="roundRect">
              <a:avLst>
                <a:gd name="adj" fmla="val 1352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298" name="" descr=""/>
            <p:cNvPicPr/>
            <p:nvPr/>
          </p:nvPicPr>
          <p:blipFill>
            <a:blip r:embed="rId1"/>
            <a:stretch/>
          </p:blipFill>
          <p:spPr>
            <a:xfrm>
              <a:off x="808200" y="2381400"/>
              <a:ext cx="7527600" cy="3228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300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302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305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32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del of a Pennsylvania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al Swam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623880" y="2023920"/>
            <a:ext cx="7894800" cy="4113360"/>
            <a:chOff x="623880" y="2023920"/>
            <a:chExt cx="7894800" cy="4113360"/>
          </a:xfrm>
        </p:grpSpPr>
        <p:sp>
          <p:nvSpPr>
            <p:cNvPr id="309" name=""/>
            <p:cNvSpPr/>
            <p:nvPr/>
          </p:nvSpPr>
          <p:spPr>
            <a:xfrm>
              <a:off x="623880" y="2023920"/>
              <a:ext cx="7894800" cy="4113360"/>
            </a:xfrm>
            <a:prstGeom prst="roundRect">
              <a:avLst>
                <a:gd name="adj" fmla="val 1352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310" name="" descr=""/>
            <p:cNvPicPr/>
            <p:nvPr/>
          </p:nvPicPr>
          <p:blipFill>
            <a:blip r:embed="rId1"/>
            <a:stretch/>
          </p:blipFill>
          <p:spPr>
            <a:xfrm>
              <a:off x="1071720" y="2473200"/>
              <a:ext cx="7000560" cy="321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-15840" y="0"/>
            <a:ext cx="9159840" cy="6629400"/>
            <a:chOff x="-15840" y="0"/>
            <a:chExt cx="9159840" cy="6629400"/>
          </a:xfrm>
        </p:grpSpPr>
        <p:grpSp>
          <p:nvGrpSpPr>
            <p:cNvPr id="312" name=""/>
            <p:cNvGrpSpPr/>
            <p:nvPr/>
          </p:nvGrpSpPr>
          <p:grpSpPr>
            <a:xfrm>
              <a:off x="304920" y="1523880"/>
              <a:ext cx="8534160" cy="5105520"/>
              <a:chOff x="304920" y="1523880"/>
              <a:chExt cx="8534160" cy="5105520"/>
            </a:xfrm>
          </p:grpSpPr>
          <p:sp>
            <p:nvSpPr>
              <p:cNvPr id="313" name=""/>
              <p:cNvSpPr/>
              <p:nvPr/>
            </p:nvSpPr>
            <p:spPr>
              <a:xfrm>
                <a:off x="30492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010160" y="1638360"/>
                <a:ext cx="6142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The Great Paleozoic Extinction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-15840" y="0"/>
              <a:ext cx="9159840" cy="1430280"/>
              <a:chOff x="-15840" y="0"/>
              <a:chExt cx="9159840" cy="1430280"/>
            </a:xfrm>
          </p:grpSpPr>
          <p:sp>
            <p:nvSpPr>
              <p:cNvPr id="316" name=""/>
              <p:cNvSpPr/>
              <p:nvPr/>
            </p:nvSpPr>
            <p:spPr>
              <a:xfrm>
                <a:off x="-936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17" name=""/>
              <p:cNvGrpSpPr/>
              <p:nvPr/>
            </p:nvGrpSpPr>
            <p:grpSpPr>
              <a:xfrm>
                <a:off x="-15840" y="0"/>
                <a:ext cx="9159840" cy="136440"/>
                <a:chOff x="-15840" y="0"/>
                <a:chExt cx="9159840" cy="13644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-158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-158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-7920" y="1219320"/>
                <a:ext cx="9144000" cy="210960"/>
                <a:chOff x="-7920" y="1219320"/>
                <a:chExt cx="9144000" cy="21096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-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-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d600"/>
                </a:solidFill>
                <a:latin typeface="Arial"/>
                <a:ea typeface="Times New Roman"/>
              </a:rPr>
              <a:t>13.2</a:t>
            </a:r>
            <a:r>
              <a:rPr b="1" lang="en-US" sz="4300" spc="-1" strike="noStrike">
                <a:solidFill>
                  <a:srgbClr val="ffffff"/>
                </a:solidFill>
                <a:latin typeface="Arial"/>
                <a:ea typeface="Times New Roman"/>
              </a:rPr>
              <a:t>  Paleozoic Era: Life Explodes   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260360" y="2151000"/>
            <a:ext cx="763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1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world’s climate became very seasonal, probably causing the dramatic extinction of many speci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"/>
          <p:cNvSpPr/>
          <p:nvPr/>
        </p:nvSpPr>
        <p:spPr>
          <a:xfrm>
            <a:off x="1260360" y="3446640"/>
            <a:ext cx="763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1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late Paleozoic extinction was the greatest of at least five mass extinctions to occur over the past 500 million year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-15840" y="0"/>
            <a:ext cx="9159840" cy="6629400"/>
            <a:chOff x="-15840" y="0"/>
            <a:chExt cx="9159840" cy="6629400"/>
          </a:xfrm>
        </p:grpSpPr>
        <p:grpSp>
          <p:nvGrpSpPr>
            <p:cNvPr id="327" name=""/>
            <p:cNvGrpSpPr/>
            <p:nvPr/>
          </p:nvGrpSpPr>
          <p:grpSpPr>
            <a:xfrm>
              <a:off x="304920" y="1523880"/>
              <a:ext cx="8534160" cy="5105520"/>
              <a:chOff x="304920" y="1523880"/>
              <a:chExt cx="8534160" cy="5105520"/>
            </a:xfrm>
          </p:grpSpPr>
          <p:sp>
            <p:nvSpPr>
              <p:cNvPr id="328" name=""/>
              <p:cNvSpPr/>
              <p:nvPr/>
            </p:nvSpPr>
            <p:spPr>
              <a:xfrm>
                <a:off x="30492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009800" y="1638360"/>
                <a:ext cx="2777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Mesozoic Era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-15840" y="0"/>
              <a:ext cx="9159840" cy="1430280"/>
              <a:chOff x="-15840" y="0"/>
              <a:chExt cx="9159840" cy="1430280"/>
            </a:xfrm>
          </p:grpSpPr>
          <p:sp>
            <p:nvSpPr>
              <p:cNvPr id="331" name=""/>
              <p:cNvSpPr/>
              <p:nvPr/>
            </p:nvSpPr>
            <p:spPr>
              <a:xfrm>
                <a:off x="-936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32" name=""/>
              <p:cNvGrpSpPr/>
              <p:nvPr/>
            </p:nvGrpSpPr>
            <p:grpSpPr>
              <a:xfrm>
                <a:off x="-15840" y="0"/>
                <a:ext cx="9159840" cy="136440"/>
                <a:chOff x="-15840" y="0"/>
                <a:chExt cx="9159840" cy="13644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-158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-158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-7920" y="1219320"/>
                <a:ext cx="9144000" cy="210960"/>
                <a:chOff x="-7920" y="1219320"/>
                <a:chExt cx="9144000" cy="21096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-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-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d600"/>
                </a:solidFill>
                <a:latin typeface="Arial"/>
                <a:ea typeface="Times New Roman"/>
              </a:rPr>
              <a:t>13.3 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4100" spc="-1" strike="noStrike">
                <a:solidFill>
                  <a:srgbClr val="ffffff"/>
                </a:solidFill>
                <a:latin typeface="Arial"/>
                <a:ea typeface="Times New Roman"/>
              </a:rPr>
              <a:t>Mesozoic Era: Age of Reptiles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260360" y="2151000"/>
            <a:ext cx="763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1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inosau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were land-dwelling reptiles that thrived during the Mesozoic er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"/>
          <p:cNvSpPr/>
          <p:nvPr/>
        </p:nvSpPr>
        <p:spPr>
          <a:xfrm>
            <a:off x="1260360" y="308448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1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sozoic His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"/>
          <p:cNvSpPr/>
          <p:nvPr/>
        </p:nvSpPr>
        <p:spPr>
          <a:xfrm>
            <a:off x="1736640" y="3589200"/>
            <a:ext cx="739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major event of the Mesozoic era was the breakup of Panga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2209680"/>
          </a:xfrm>
          <a:prstGeom prst="rect">
            <a:avLst/>
          </a:prstGeom>
          <a:solidFill>
            <a:srgbClr val="d00c0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1600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pter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5400"/>
            </a:br>
            <a:r>
              <a:rPr b="1" lang="en-US" sz="96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93024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Earth’s History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-15840" y="0"/>
            <a:ext cx="9159840" cy="6629400"/>
            <a:chOff x="-15840" y="0"/>
            <a:chExt cx="9159840" cy="6629400"/>
          </a:xfrm>
        </p:grpSpPr>
        <p:grpSp>
          <p:nvGrpSpPr>
            <p:cNvPr id="343" name=""/>
            <p:cNvGrpSpPr/>
            <p:nvPr/>
          </p:nvGrpSpPr>
          <p:grpSpPr>
            <a:xfrm>
              <a:off x="304920" y="1523880"/>
              <a:ext cx="8534160" cy="5105520"/>
              <a:chOff x="304920" y="1523880"/>
              <a:chExt cx="8534160" cy="5105520"/>
            </a:xfrm>
          </p:grpSpPr>
          <p:sp>
            <p:nvSpPr>
              <p:cNvPr id="344" name=""/>
              <p:cNvSpPr/>
              <p:nvPr/>
            </p:nvSpPr>
            <p:spPr>
              <a:xfrm>
                <a:off x="30492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009800" y="1638360"/>
                <a:ext cx="2777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Mesozoic Era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-15840" y="0"/>
              <a:ext cx="9159840" cy="1430280"/>
              <a:chOff x="-15840" y="0"/>
              <a:chExt cx="9159840" cy="1430280"/>
            </a:xfrm>
          </p:grpSpPr>
          <p:sp>
            <p:nvSpPr>
              <p:cNvPr id="347" name=""/>
              <p:cNvSpPr/>
              <p:nvPr/>
            </p:nvSpPr>
            <p:spPr>
              <a:xfrm>
                <a:off x="-936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-15840" y="0"/>
                <a:ext cx="9159840" cy="136440"/>
                <a:chOff x="-15840" y="0"/>
                <a:chExt cx="9159840" cy="13644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-158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-158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-7920" y="1219320"/>
                <a:ext cx="9144000" cy="210960"/>
                <a:chOff x="-7920" y="1219320"/>
                <a:chExt cx="9144000" cy="21096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-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-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354" name=""/>
          <p:cNvSpPr/>
          <p:nvPr/>
        </p:nvSpPr>
        <p:spPr>
          <a:xfrm>
            <a:off x="1260360" y="217656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1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sozoic Lif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d600"/>
                </a:solidFill>
                <a:latin typeface="Arial"/>
                <a:ea typeface="Times New Roman"/>
              </a:rPr>
              <a:t>13.3 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4100" spc="-1" strike="noStrike">
                <a:solidFill>
                  <a:srgbClr val="ffffff"/>
                </a:solidFill>
                <a:latin typeface="Arial"/>
                <a:ea typeface="Times New Roman"/>
              </a:rPr>
              <a:t>Mesozoic Era: Age of Reptiles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736640" y="2641680"/>
            <a:ext cx="70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ymnosper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re seed-bearing plants that do not depend on free-standing water for fertiliz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"/>
          <p:cNvSpPr/>
          <p:nvPr/>
        </p:nvSpPr>
        <p:spPr>
          <a:xfrm>
            <a:off x="1736640" y="3778200"/>
            <a:ext cx="709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gymnosperms quickly became the dominant plants of the Mesozoic e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359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361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364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32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anadian Rockies Were Formed Throughout the Cretaceous Peri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457200" y="2023920"/>
            <a:ext cx="8229600" cy="4181760"/>
            <a:chOff x="457200" y="2023920"/>
            <a:chExt cx="8229600" cy="4181760"/>
          </a:xfrm>
        </p:grpSpPr>
        <p:sp>
          <p:nvSpPr>
            <p:cNvPr id="368" name=""/>
            <p:cNvSpPr/>
            <p:nvPr/>
          </p:nvSpPr>
          <p:spPr>
            <a:xfrm>
              <a:off x="457200" y="2023920"/>
              <a:ext cx="8229600" cy="4181760"/>
            </a:xfrm>
            <a:prstGeom prst="roundRect">
              <a:avLst>
                <a:gd name="adj" fmla="val 1352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369" name="" descr=""/>
            <p:cNvPicPr/>
            <p:nvPr/>
          </p:nvPicPr>
          <p:blipFill>
            <a:blip r:embed="rId1"/>
            <a:stretch/>
          </p:blipFill>
          <p:spPr>
            <a:xfrm>
              <a:off x="1093680" y="2644920"/>
              <a:ext cx="6954840" cy="2939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-15840" y="0"/>
            <a:ext cx="9159840" cy="6629400"/>
            <a:chOff x="-15840" y="0"/>
            <a:chExt cx="9159840" cy="6629400"/>
          </a:xfrm>
        </p:grpSpPr>
        <p:grpSp>
          <p:nvGrpSpPr>
            <p:cNvPr id="371" name=""/>
            <p:cNvGrpSpPr/>
            <p:nvPr/>
          </p:nvGrpSpPr>
          <p:grpSpPr>
            <a:xfrm>
              <a:off x="304920" y="1523880"/>
              <a:ext cx="8534160" cy="5105520"/>
              <a:chOff x="304920" y="1523880"/>
              <a:chExt cx="8534160" cy="5105520"/>
            </a:xfrm>
          </p:grpSpPr>
          <p:sp>
            <p:nvSpPr>
              <p:cNvPr id="372" name=""/>
              <p:cNvSpPr/>
              <p:nvPr/>
            </p:nvSpPr>
            <p:spPr>
              <a:xfrm>
                <a:off x="30492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009800" y="1638360"/>
                <a:ext cx="2777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Mesozoic Era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-15840" y="0"/>
              <a:ext cx="9159840" cy="1430280"/>
              <a:chOff x="-15840" y="0"/>
              <a:chExt cx="9159840" cy="1430280"/>
            </a:xfrm>
          </p:grpSpPr>
          <p:sp>
            <p:nvSpPr>
              <p:cNvPr id="375" name=""/>
              <p:cNvSpPr/>
              <p:nvPr/>
            </p:nvSpPr>
            <p:spPr>
              <a:xfrm>
                <a:off x="-936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76" name=""/>
              <p:cNvGrpSpPr/>
              <p:nvPr/>
            </p:nvGrpSpPr>
            <p:grpSpPr>
              <a:xfrm>
                <a:off x="-15840" y="0"/>
                <a:ext cx="9159840" cy="136440"/>
                <a:chOff x="-15840" y="0"/>
                <a:chExt cx="9159840" cy="13644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-158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-158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-7920" y="1219320"/>
                <a:ext cx="9144000" cy="210960"/>
                <a:chOff x="-7920" y="1219320"/>
                <a:chExt cx="9144000" cy="21096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-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-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382" name=""/>
          <p:cNvSpPr/>
          <p:nvPr/>
        </p:nvSpPr>
        <p:spPr>
          <a:xfrm>
            <a:off x="1260360" y="21636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1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Shelled Eg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d600"/>
                </a:solidFill>
                <a:latin typeface="Arial"/>
                <a:ea typeface="Times New Roman"/>
              </a:rPr>
              <a:t>13.3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en-US" sz="4100" spc="-1" strike="noStrike">
                <a:solidFill>
                  <a:srgbClr val="ffffff"/>
                </a:solidFill>
                <a:latin typeface="Arial"/>
                <a:ea typeface="Times New Roman"/>
              </a:rPr>
              <a:t>Mesozoic Era: Age of Reptiles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736640" y="2631960"/>
            <a:ext cx="709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nlike amphibians, reptiles have shell-covered eggs that can be laid on the la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1736640" y="3402000"/>
            <a:ext cx="709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elimination of a water-dwelling stage (like the tadpole stage in frogs) was an important evolutionary ste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-15840" y="0"/>
            <a:ext cx="9159840" cy="6629400"/>
            <a:chOff x="-15840" y="0"/>
            <a:chExt cx="9159840" cy="6629400"/>
          </a:xfrm>
        </p:grpSpPr>
        <p:grpSp>
          <p:nvGrpSpPr>
            <p:cNvPr id="387" name=""/>
            <p:cNvGrpSpPr/>
            <p:nvPr/>
          </p:nvGrpSpPr>
          <p:grpSpPr>
            <a:xfrm>
              <a:off x="304920" y="1523880"/>
              <a:ext cx="8534160" cy="5105520"/>
              <a:chOff x="304920" y="1523880"/>
              <a:chExt cx="8534160" cy="5105520"/>
            </a:xfrm>
          </p:grpSpPr>
          <p:sp>
            <p:nvSpPr>
              <p:cNvPr id="388" name=""/>
              <p:cNvSpPr/>
              <p:nvPr/>
            </p:nvSpPr>
            <p:spPr>
              <a:xfrm>
                <a:off x="30492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009800" y="1638360"/>
                <a:ext cx="2777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Mesozoic Era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-15840" y="0"/>
              <a:ext cx="9159840" cy="1430280"/>
              <a:chOff x="-15840" y="0"/>
              <a:chExt cx="9159840" cy="1430280"/>
            </a:xfrm>
          </p:grpSpPr>
          <p:sp>
            <p:nvSpPr>
              <p:cNvPr id="391" name=""/>
              <p:cNvSpPr/>
              <p:nvPr/>
            </p:nvSpPr>
            <p:spPr>
              <a:xfrm>
                <a:off x="-936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92" name=""/>
              <p:cNvGrpSpPr/>
              <p:nvPr/>
            </p:nvGrpSpPr>
            <p:grpSpPr>
              <a:xfrm>
                <a:off x="-15840" y="0"/>
                <a:ext cx="9159840" cy="136440"/>
                <a:chOff x="-15840" y="0"/>
                <a:chExt cx="9159840" cy="13644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-158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-158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-7920" y="1219320"/>
                <a:ext cx="9144000" cy="210960"/>
                <a:chOff x="-7920" y="1219320"/>
                <a:chExt cx="9144000" cy="21096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-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-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398" name=""/>
          <p:cNvSpPr/>
          <p:nvPr/>
        </p:nvSpPr>
        <p:spPr>
          <a:xfrm>
            <a:off x="1260360" y="217656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1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ptiles Do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d600"/>
                </a:solidFill>
                <a:latin typeface="Arial"/>
                <a:ea typeface="Times New Roman"/>
              </a:rPr>
              <a:t>13.3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en-US" sz="4100" spc="-1" strike="noStrike">
                <a:solidFill>
                  <a:srgbClr val="ffffff"/>
                </a:solidFill>
                <a:latin typeface="Arial"/>
                <a:ea typeface="Times New Roman"/>
              </a:rPr>
              <a:t>Mesozoic Era: Age of Reptiles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736640" y="2652840"/>
            <a:ext cx="709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ith the perfection of the shelled egg, reptiles quickly became the dominant land anima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"/>
          <p:cNvSpPr/>
          <p:nvPr/>
        </p:nvSpPr>
        <p:spPr>
          <a:xfrm>
            <a:off x="1736640" y="3432240"/>
            <a:ext cx="709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t the end of the Mesozoic era, many reptile groups became extin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403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405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408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Flying Reptile Pteranod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1623960" y="1523880"/>
            <a:ext cx="5896080" cy="5105520"/>
            <a:chOff x="1623960" y="1523880"/>
            <a:chExt cx="5896080" cy="5105520"/>
          </a:xfrm>
        </p:grpSpPr>
        <p:sp>
          <p:nvSpPr>
            <p:cNvPr id="412" name=""/>
            <p:cNvSpPr/>
            <p:nvPr/>
          </p:nvSpPr>
          <p:spPr>
            <a:xfrm>
              <a:off x="1623960" y="1523880"/>
              <a:ext cx="5896080" cy="5105520"/>
            </a:xfrm>
            <a:prstGeom prst="roundRect">
              <a:avLst>
                <a:gd name="adj" fmla="val 1352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413" name="" descr=""/>
            <p:cNvPicPr/>
            <p:nvPr/>
          </p:nvPicPr>
          <p:blipFill>
            <a:blip r:embed="rId1"/>
            <a:stretch/>
          </p:blipFill>
          <p:spPr>
            <a:xfrm>
              <a:off x="2085840" y="1924200"/>
              <a:ext cx="4970520" cy="4305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415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417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420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Fossil Skull of an Extinct Crocodi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2419200" y="2062080"/>
            <a:ext cx="4303800" cy="4111560"/>
            <a:chOff x="2419200" y="2062080"/>
            <a:chExt cx="4303800" cy="4111560"/>
          </a:xfrm>
        </p:grpSpPr>
        <p:sp>
          <p:nvSpPr>
            <p:cNvPr id="424" name=""/>
            <p:cNvSpPr/>
            <p:nvPr/>
          </p:nvSpPr>
          <p:spPr>
            <a:xfrm>
              <a:off x="2419200" y="2062080"/>
              <a:ext cx="4303800" cy="4111560"/>
            </a:xfrm>
            <a:prstGeom prst="roundRect">
              <a:avLst>
                <a:gd name="adj" fmla="val 1352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425" name="" descr=""/>
            <p:cNvPicPr/>
            <p:nvPr/>
          </p:nvPicPr>
          <p:blipFill>
            <a:blip r:embed="rId1"/>
            <a:stretch/>
          </p:blipFill>
          <p:spPr>
            <a:xfrm>
              <a:off x="2959200" y="2538360"/>
              <a:ext cx="3224160" cy="315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"/>
          <p:cNvGrpSpPr/>
          <p:nvPr/>
        </p:nvGrpSpPr>
        <p:grpSpPr>
          <a:xfrm>
            <a:off x="-15840" y="0"/>
            <a:ext cx="9159840" cy="6629400"/>
            <a:chOff x="-15840" y="0"/>
            <a:chExt cx="9159840" cy="6629400"/>
          </a:xfrm>
        </p:grpSpPr>
        <p:grpSp>
          <p:nvGrpSpPr>
            <p:cNvPr id="427" name=""/>
            <p:cNvGrpSpPr/>
            <p:nvPr/>
          </p:nvGrpSpPr>
          <p:grpSpPr>
            <a:xfrm>
              <a:off x="304920" y="1523880"/>
              <a:ext cx="8534160" cy="5105520"/>
              <a:chOff x="304920" y="1523880"/>
              <a:chExt cx="8534160" cy="5105520"/>
            </a:xfrm>
          </p:grpSpPr>
          <p:sp>
            <p:nvSpPr>
              <p:cNvPr id="428" name=""/>
              <p:cNvSpPr/>
              <p:nvPr/>
            </p:nvSpPr>
            <p:spPr>
              <a:xfrm>
                <a:off x="30492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008720" y="1638360"/>
                <a:ext cx="4902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Cenozoic North America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-15840" y="0"/>
              <a:ext cx="9159840" cy="1430280"/>
              <a:chOff x="-15840" y="0"/>
              <a:chExt cx="9159840" cy="1430280"/>
            </a:xfrm>
          </p:grpSpPr>
          <p:sp>
            <p:nvSpPr>
              <p:cNvPr id="431" name=""/>
              <p:cNvSpPr/>
              <p:nvPr/>
            </p:nvSpPr>
            <p:spPr>
              <a:xfrm>
                <a:off x="-936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-15840" y="0"/>
                <a:ext cx="9159840" cy="136440"/>
                <a:chOff x="-15840" y="0"/>
                <a:chExt cx="9159840" cy="13644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-158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-158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-7920" y="1219320"/>
                <a:ext cx="9144000" cy="210960"/>
                <a:chOff x="-7920" y="1219320"/>
                <a:chExt cx="9144000" cy="21096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-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-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438" name=""/>
          <p:cNvSpPr/>
          <p:nvPr/>
        </p:nvSpPr>
        <p:spPr>
          <a:xfrm>
            <a:off x="1260360" y="2151000"/>
            <a:ext cx="757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1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Cenozoic era is divided into two periods of very unequal duration, the Tertiary period and the Quaternary perio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600"/>
                </a:solidFill>
                <a:latin typeface="Arial"/>
                <a:ea typeface="Times New Roman"/>
              </a:rPr>
              <a:t>13.4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3900" spc="-1" strike="noStrike">
                <a:solidFill>
                  <a:srgbClr val="ffffff"/>
                </a:solidFill>
                <a:latin typeface="Arial"/>
                <a:ea typeface="Times New Roman"/>
              </a:rPr>
              <a:t>Cenozoic Era: Age of Mammal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260360" y="3505320"/>
            <a:ext cx="7572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1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late interactions during the Cenozoic era caused many events of mountain building, volcanism, and earthquakes in the Wes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"/>
          <p:cNvGrpSpPr/>
          <p:nvPr/>
        </p:nvGrpSpPr>
        <p:grpSpPr>
          <a:xfrm>
            <a:off x="-15840" y="0"/>
            <a:ext cx="9159840" cy="6629400"/>
            <a:chOff x="-15840" y="0"/>
            <a:chExt cx="9159840" cy="6629400"/>
          </a:xfrm>
        </p:grpSpPr>
        <p:grpSp>
          <p:nvGrpSpPr>
            <p:cNvPr id="442" name=""/>
            <p:cNvGrpSpPr/>
            <p:nvPr/>
          </p:nvGrpSpPr>
          <p:grpSpPr>
            <a:xfrm>
              <a:off x="304920" y="1523880"/>
              <a:ext cx="8534160" cy="5105520"/>
              <a:chOff x="304920" y="1523880"/>
              <a:chExt cx="8534160" cy="5105520"/>
            </a:xfrm>
          </p:grpSpPr>
          <p:sp>
            <p:nvSpPr>
              <p:cNvPr id="443" name=""/>
              <p:cNvSpPr/>
              <p:nvPr/>
            </p:nvSpPr>
            <p:spPr>
              <a:xfrm>
                <a:off x="30492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009080" y="1638360"/>
                <a:ext cx="2823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Cenozoic Life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-15840" y="0"/>
              <a:ext cx="9159840" cy="1430280"/>
              <a:chOff x="-15840" y="0"/>
              <a:chExt cx="9159840" cy="1430280"/>
            </a:xfrm>
          </p:grpSpPr>
          <p:sp>
            <p:nvSpPr>
              <p:cNvPr id="446" name=""/>
              <p:cNvSpPr/>
              <p:nvPr/>
            </p:nvSpPr>
            <p:spPr>
              <a:xfrm>
                <a:off x="-936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47" name=""/>
              <p:cNvGrpSpPr/>
              <p:nvPr/>
            </p:nvGrpSpPr>
            <p:grpSpPr>
              <a:xfrm>
                <a:off x="-15840" y="0"/>
                <a:ext cx="9159840" cy="136440"/>
                <a:chOff x="-15840" y="0"/>
                <a:chExt cx="9159840" cy="13644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-158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-158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-7920" y="1219320"/>
                <a:ext cx="9144000" cy="210960"/>
                <a:chOff x="-7920" y="1219320"/>
                <a:chExt cx="9144000" cy="21096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-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-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453" name=""/>
          <p:cNvSpPr/>
          <p:nvPr/>
        </p:nvSpPr>
        <p:spPr>
          <a:xfrm>
            <a:off x="1260360" y="2163600"/>
            <a:ext cx="75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1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amm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—animals that bear live young and maintain a steady body temperature— replaced reptiles as the dominant land animals in the Cenozoic er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600"/>
                </a:solidFill>
                <a:latin typeface="Arial"/>
                <a:ea typeface="Times New Roman"/>
              </a:rPr>
              <a:t>13.4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3900" spc="-1" strike="noStrike">
                <a:solidFill>
                  <a:srgbClr val="ffffff"/>
                </a:solidFill>
                <a:latin typeface="Arial"/>
                <a:ea typeface="Times New Roman"/>
              </a:rPr>
              <a:t>Cenozoic Era: Age of Mammal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260360" y="3936960"/>
            <a:ext cx="75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1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giosper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flowering plants with covered seeds—replaced gymnosperms as the dominant land pla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"/>
          <p:cNvGrpSpPr/>
          <p:nvPr/>
        </p:nvGrpSpPr>
        <p:grpSpPr>
          <a:xfrm>
            <a:off x="-15840" y="0"/>
            <a:ext cx="9159840" cy="6629400"/>
            <a:chOff x="-15840" y="0"/>
            <a:chExt cx="9159840" cy="6629400"/>
          </a:xfrm>
        </p:grpSpPr>
        <p:grpSp>
          <p:nvGrpSpPr>
            <p:cNvPr id="457" name=""/>
            <p:cNvGrpSpPr/>
            <p:nvPr/>
          </p:nvGrpSpPr>
          <p:grpSpPr>
            <a:xfrm>
              <a:off x="304920" y="1523880"/>
              <a:ext cx="8534160" cy="5105520"/>
              <a:chOff x="304920" y="1523880"/>
              <a:chExt cx="8534160" cy="5105520"/>
            </a:xfrm>
          </p:grpSpPr>
          <p:sp>
            <p:nvSpPr>
              <p:cNvPr id="458" name=""/>
              <p:cNvSpPr/>
              <p:nvPr/>
            </p:nvSpPr>
            <p:spPr>
              <a:xfrm>
                <a:off x="30492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009080" y="1638360"/>
                <a:ext cx="2823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Cenozoic Life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-15840" y="0"/>
              <a:ext cx="9159840" cy="1430280"/>
              <a:chOff x="-15840" y="0"/>
              <a:chExt cx="9159840" cy="1430280"/>
            </a:xfrm>
          </p:grpSpPr>
          <p:sp>
            <p:nvSpPr>
              <p:cNvPr id="461" name=""/>
              <p:cNvSpPr/>
              <p:nvPr/>
            </p:nvSpPr>
            <p:spPr>
              <a:xfrm>
                <a:off x="-936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62" name=""/>
              <p:cNvGrpSpPr/>
              <p:nvPr/>
            </p:nvGrpSpPr>
            <p:grpSpPr>
              <a:xfrm>
                <a:off x="-15840" y="0"/>
                <a:ext cx="9159840" cy="136440"/>
                <a:chOff x="-15840" y="0"/>
                <a:chExt cx="9159840" cy="13644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-158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-158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-7920" y="1219320"/>
                <a:ext cx="9144000" cy="210960"/>
                <a:chOff x="-7920" y="1219320"/>
                <a:chExt cx="9144000" cy="21096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-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-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468" name=""/>
          <p:cNvSpPr/>
          <p:nvPr/>
        </p:nvSpPr>
        <p:spPr>
          <a:xfrm>
            <a:off x="1260360" y="21510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ammals Replace Rept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600"/>
                </a:solidFill>
                <a:latin typeface="Arial"/>
                <a:ea typeface="Times New Roman"/>
              </a:rPr>
              <a:t>13.4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3900" spc="-1" strike="noStrike">
                <a:solidFill>
                  <a:srgbClr val="ffffff"/>
                </a:solidFill>
                <a:latin typeface="Arial"/>
                <a:ea typeface="Times New Roman"/>
              </a:rPr>
              <a:t>Cenozoic Era: Age of Mammal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736640" y="2654280"/>
            <a:ext cx="695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aptations like being warm blooded, developing insulating body hair, and having more efficient heart and lungs allow mammals to lead more active lives than repti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472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474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477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ssils from La Brea Tar Pi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2308320" y="1903320"/>
            <a:ext cx="4593960" cy="4273200"/>
            <a:chOff x="2308320" y="1903320"/>
            <a:chExt cx="4593960" cy="4273200"/>
          </a:xfrm>
        </p:grpSpPr>
        <p:sp>
          <p:nvSpPr>
            <p:cNvPr id="481" name=""/>
            <p:cNvSpPr/>
            <p:nvPr/>
          </p:nvSpPr>
          <p:spPr>
            <a:xfrm>
              <a:off x="2308320" y="1903320"/>
              <a:ext cx="4593960" cy="4273200"/>
            </a:xfrm>
            <a:prstGeom prst="roundRect">
              <a:avLst>
                <a:gd name="adj" fmla="val 1352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482" name="" descr=""/>
            <p:cNvPicPr/>
            <p:nvPr/>
          </p:nvPicPr>
          <p:blipFill>
            <a:blip r:embed="rId1"/>
            <a:stretch/>
          </p:blipFill>
          <p:spPr>
            <a:xfrm>
              <a:off x="2527200" y="2136600"/>
              <a:ext cx="4155480" cy="3806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-15840" y="0"/>
            <a:ext cx="9159840" cy="6629400"/>
            <a:chOff x="-15840" y="0"/>
            <a:chExt cx="9159840" cy="6629400"/>
          </a:xfrm>
        </p:grpSpPr>
        <p:grpSp>
          <p:nvGrpSpPr>
            <p:cNvPr id="101" name=""/>
            <p:cNvGrpSpPr/>
            <p:nvPr/>
          </p:nvGrpSpPr>
          <p:grpSpPr>
            <a:xfrm>
              <a:off x="304920" y="1523880"/>
              <a:ext cx="8534160" cy="5105520"/>
              <a:chOff x="304920" y="1523880"/>
              <a:chExt cx="8534160" cy="5105520"/>
            </a:xfrm>
          </p:grpSpPr>
          <p:sp>
            <p:nvSpPr>
              <p:cNvPr id="102" name=""/>
              <p:cNvSpPr/>
              <p:nvPr/>
            </p:nvSpPr>
            <p:spPr>
              <a:xfrm>
                <a:off x="30492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009800" y="1638360"/>
                <a:ext cx="4155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Precambrian History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-15840" y="0"/>
              <a:ext cx="9159840" cy="1430280"/>
              <a:chOff x="-15840" y="0"/>
              <a:chExt cx="9159840" cy="1430280"/>
            </a:xfrm>
          </p:grpSpPr>
          <p:sp>
            <p:nvSpPr>
              <p:cNvPr id="105" name=""/>
              <p:cNvSpPr/>
              <p:nvPr/>
            </p:nvSpPr>
            <p:spPr>
              <a:xfrm>
                <a:off x="-936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-15840" y="0"/>
                <a:ext cx="9159840" cy="136440"/>
                <a:chOff x="-15840" y="0"/>
                <a:chExt cx="9159840" cy="13644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-158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-158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-7920" y="1219320"/>
                <a:ext cx="9144000" cy="210960"/>
                <a:chOff x="-7920" y="1219320"/>
                <a:chExt cx="9144000" cy="21096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-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-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916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d600"/>
                </a:solidFill>
                <a:latin typeface="Arial"/>
                <a:ea typeface="Times New Roman"/>
              </a:rPr>
              <a:t>13.1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  Precambrian Time: Vast and Puzzling   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60360" y="2151000"/>
            <a:ext cx="7635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1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Precambrian encompasses immense geological time, from Earth’s distant beginnings 4.56 billion years ago until the start of the Cambrian period, over 4 billion years lat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260360" y="429264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1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ecambrian R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4726080"/>
            <a:ext cx="739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hield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re large, relatively flat expanses of ancient metamorphic rock within the stable continental inter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1736640" y="5826240"/>
            <a:ext cx="687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uch of what we know about Precambrian rocks comes from ores mined from shiel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"/>
          <p:cNvGrpSpPr/>
          <p:nvPr/>
        </p:nvGrpSpPr>
        <p:grpSpPr>
          <a:xfrm>
            <a:off x="-15840" y="0"/>
            <a:ext cx="9159840" cy="6629400"/>
            <a:chOff x="-15840" y="0"/>
            <a:chExt cx="9159840" cy="6629400"/>
          </a:xfrm>
        </p:grpSpPr>
        <p:grpSp>
          <p:nvGrpSpPr>
            <p:cNvPr id="484" name=""/>
            <p:cNvGrpSpPr/>
            <p:nvPr/>
          </p:nvGrpSpPr>
          <p:grpSpPr>
            <a:xfrm>
              <a:off x="304920" y="1523880"/>
              <a:ext cx="8534160" cy="5105520"/>
              <a:chOff x="304920" y="1523880"/>
              <a:chExt cx="8534160" cy="5105520"/>
            </a:xfrm>
          </p:grpSpPr>
          <p:sp>
            <p:nvSpPr>
              <p:cNvPr id="485" name=""/>
              <p:cNvSpPr/>
              <p:nvPr/>
            </p:nvSpPr>
            <p:spPr>
              <a:xfrm>
                <a:off x="30492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006920" y="1638360"/>
                <a:ext cx="2823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Cenozoic Life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-15840" y="0"/>
              <a:ext cx="9159840" cy="1430280"/>
              <a:chOff x="-15840" y="0"/>
              <a:chExt cx="9159840" cy="1430280"/>
            </a:xfrm>
          </p:grpSpPr>
          <p:sp>
            <p:nvSpPr>
              <p:cNvPr id="488" name=""/>
              <p:cNvSpPr/>
              <p:nvPr/>
            </p:nvSpPr>
            <p:spPr>
              <a:xfrm>
                <a:off x="-936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89" name=""/>
              <p:cNvGrpSpPr/>
              <p:nvPr/>
            </p:nvGrpSpPr>
            <p:grpSpPr>
              <a:xfrm>
                <a:off x="-15840" y="0"/>
                <a:ext cx="9159840" cy="136440"/>
                <a:chOff x="-15840" y="0"/>
                <a:chExt cx="9159840" cy="13644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-158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-158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-7920" y="1219320"/>
                <a:ext cx="9144000" cy="210960"/>
                <a:chOff x="-7920" y="1219320"/>
                <a:chExt cx="9144000" cy="21096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-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-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495" name=""/>
          <p:cNvSpPr/>
          <p:nvPr/>
        </p:nvSpPr>
        <p:spPr>
          <a:xfrm>
            <a:off x="1260360" y="21510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0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rge Mammals and Exti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253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600"/>
                </a:solidFill>
                <a:latin typeface="Arial"/>
                <a:ea typeface="Times New Roman"/>
              </a:rPr>
              <a:t>13.4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en-US" sz="3900" spc="-1" strike="noStrike">
                <a:solidFill>
                  <a:srgbClr val="ffffff"/>
                </a:solidFill>
                <a:latin typeface="Arial"/>
                <a:ea typeface="Times New Roman"/>
              </a:rPr>
              <a:t>Cenozoic Era: Age of Mammal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736640" y="2666880"/>
            <a:ext cx="714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North America, the mastodon and mammoth, both huge relatives of the elephant, became extinct. In addition, saber-toothed cats, giant beavers, large ground sloths, horses, camels, giant bison, and others died out on the North American continen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"/>
          <p:cNvSpPr/>
          <p:nvPr/>
        </p:nvSpPr>
        <p:spPr>
          <a:xfrm>
            <a:off x="1736640" y="4916520"/>
            <a:ext cx="714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reason for this recent wave of extinctions puzzles scienti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118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120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123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ologic Time Sca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957320" y="1523880"/>
            <a:ext cx="5227560" cy="5105520"/>
            <a:chOff x="1957320" y="1523880"/>
            <a:chExt cx="5227560" cy="5105520"/>
          </a:xfrm>
        </p:grpSpPr>
        <p:sp>
          <p:nvSpPr>
            <p:cNvPr id="127" name=""/>
            <p:cNvSpPr/>
            <p:nvPr/>
          </p:nvSpPr>
          <p:spPr>
            <a:xfrm>
              <a:off x="1957320" y="1523880"/>
              <a:ext cx="5227560" cy="5105520"/>
            </a:xfrm>
            <a:prstGeom prst="roundRect">
              <a:avLst>
                <a:gd name="adj" fmla="val 1352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2635200" y="1739880"/>
              <a:ext cx="3871800" cy="4675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0" y="0"/>
            <a:ext cx="9159840" cy="1430280"/>
            <a:chOff x="0" y="0"/>
            <a:chExt cx="9159840" cy="1430280"/>
          </a:xfrm>
        </p:grpSpPr>
        <p:sp>
          <p:nvSpPr>
            <p:cNvPr id="130" name=""/>
            <p:cNvSpPr/>
            <p:nvPr/>
          </p:nvSpPr>
          <p:spPr>
            <a:xfrm>
              <a:off x="6480" y="0"/>
              <a:ext cx="9144000" cy="1219320"/>
            </a:xfrm>
            <a:prstGeom prst="rect">
              <a:avLst/>
            </a:prstGeom>
            <a:solidFill>
              <a:srgbClr val="d00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0" y="0"/>
              <a:ext cx="9159840" cy="136440"/>
              <a:chOff x="0" y="0"/>
              <a:chExt cx="9159840" cy="136440"/>
            </a:xfrm>
          </p:grpSpPr>
          <p:sp>
            <p:nvSpPr>
              <p:cNvPr id="132" name=""/>
              <p:cNvSpPr/>
              <p:nvPr/>
            </p:nvSpPr>
            <p:spPr>
              <a:xfrm>
                <a:off x="0" y="0"/>
                <a:ext cx="915984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44280"/>
                <a:ext cx="9159840" cy="9216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7920" y="1219320"/>
              <a:ext cx="9144000" cy="210960"/>
              <a:chOff x="7920" y="1219320"/>
              <a:chExt cx="9144000" cy="210960"/>
            </a:xfrm>
          </p:grpSpPr>
          <p:sp>
            <p:nvSpPr>
              <p:cNvPr id="135" name=""/>
              <p:cNvSpPr/>
              <p:nvPr/>
            </p:nvSpPr>
            <p:spPr>
              <a:xfrm>
                <a:off x="7920" y="1219320"/>
                <a:ext cx="9144000" cy="0"/>
              </a:xfrm>
              <a:prstGeom prst="line">
                <a:avLst/>
              </a:prstGeom>
              <a:ln w="10152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920" y="1247760"/>
                <a:ext cx="9144000" cy="182520"/>
              </a:xfrm>
              <a:prstGeom prst="rect">
                <a:avLst/>
              </a:prstGeom>
              <a:gradFill rotWithShape="0">
                <a:gsLst>
                  <a:gs pos="0">
                    <a:srgbClr val="323744"/>
                  </a:gs>
                  <a:gs pos="100000">
                    <a:srgbClr val="6d789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5704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2979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mnants of Precambrian Roc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57200" y="1765440"/>
            <a:ext cx="8229600" cy="4597200"/>
            <a:chOff x="457200" y="1765440"/>
            <a:chExt cx="8229600" cy="4597200"/>
          </a:xfrm>
        </p:grpSpPr>
        <p:sp>
          <p:nvSpPr>
            <p:cNvPr id="139" name=""/>
            <p:cNvSpPr/>
            <p:nvPr/>
          </p:nvSpPr>
          <p:spPr>
            <a:xfrm>
              <a:off x="457200" y="1765440"/>
              <a:ext cx="8229600" cy="4597200"/>
            </a:xfrm>
            <a:prstGeom prst="roundRect">
              <a:avLst>
                <a:gd name="adj" fmla="val 1352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736560" y="2292120"/>
              <a:ext cx="7670880" cy="3541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-15840" y="0"/>
            <a:ext cx="9159840" cy="6629400"/>
            <a:chOff x="-15840" y="0"/>
            <a:chExt cx="9159840" cy="6629400"/>
          </a:xfrm>
        </p:grpSpPr>
        <p:grpSp>
          <p:nvGrpSpPr>
            <p:cNvPr id="142" name=""/>
            <p:cNvGrpSpPr/>
            <p:nvPr/>
          </p:nvGrpSpPr>
          <p:grpSpPr>
            <a:xfrm>
              <a:off x="304920" y="1523880"/>
              <a:ext cx="8534160" cy="5105520"/>
              <a:chOff x="304920" y="1523880"/>
              <a:chExt cx="8534160" cy="5105520"/>
            </a:xfrm>
          </p:grpSpPr>
          <p:sp>
            <p:nvSpPr>
              <p:cNvPr id="143" name=""/>
              <p:cNvSpPr/>
              <p:nvPr/>
            </p:nvSpPr>
            <p:spPr>
              <a:xfrm>
                <a:off x="30492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009800" y="1638360"/>
                <a:ext cx="4155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Precambrian History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-15840" y="0"/>
              <a:ext cx="9159840" cy="1430280"/>
              <a:chOff x="-15840" y="0"/>
              <a:chExt cx="9159840" cy="1430280"/>
            </a:xfrm>
          </p:grpSpPr>
          <p:sp>
            <p:nvSpPr>
              <p:cNvPr id="146" name=""/>
              <p:cNvSpPr/>
              <p:nvPr/>
            </p:nvSpPr>
            <p:spPr>
              <a:xfrm>
                <a:off x="-936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-15840" y="0"/>
                <a:ext cx="9159840" cy="136440"/>
                <a:chOff x="-15840" y="0"/>
                <a:chExt cx="9159840" cy="1364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-158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-158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-7920" y="1219320"/>
                <a:ext cx="9144000" cy="210960"/>
                <a:chOff x="-7920" y="1219320"/>
                <a:chExt cx="9144000" cy="2109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-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-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7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d600"/>
                </a:solidFill>
                <a:latin typeface="Arial"/>
                <a:ea typeface="Times New Roman"/>
              </a:rPr>
              <a:t>13.1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 Precambrian Time: Vast and Puzzling   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60360" y="21510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1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arth’s Atmosphere Evol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1736640" y="2643120"/>
            <a:ext cx="717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arth’s original atmosphere was made up of gases similar to those released in volcanic eruptions today—water vapor, carbon dioxide, nitrogen, and several trace gases, but no oxyg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1736640" y="4168800"/>
            <a:ext cx="717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ter, primary plants evolved that used photosynthesis and released oxyg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1736640" y="4962600"/>
            <a:ext cx="717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xygen began to accumulate in the atmosphere about 2.5 billion years ag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-15840" y="0"/>
            <a:ext cx="9159840" cy="6629400"/>
            <a:chOff x="-15840" y="0"/>
            <a:chExt cx="9159840" cy="6629400"/>
          </a:xfrm>
        </p:grpSpPr>
        <p:grpSp>
          <p:nvGrpSpPr>
            <p:cNvPr id="159" name=""/>
            <p:cNvGrpSpPr/>
            <p:nvPr/>
          </p:nvGrpSpPr>
          <p:grpSpPr>
            <a:xfrm>
              <a:off x="304920" y="1523880"/>
              <a:ext cx="8534160" cy="5105520"/>
              <a:chOff x="304920" y="1523880"/>
              <a:chExt cx="8534160" cy="5105520"/>
            </a:xfrm>
          </p:grpSpPr>
          <p:sp>
            <p:nvSpPr>
              <p:cNvPr id="160" name=""/>
              <p:cNvSpPr/>
              <p:nvPr/>
            </p:nvSpPr>
            <p:spPr>
              <a:xfrm>
                <a:off x="30492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09800" y="1638360"/>
                <a:ext cx="4155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Precambrian History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-15840" y="0"/>
              <a:ext cx="9159840" cy="1430280"/>
              <a:chOff x="-15840" y="0"/>
              <a:chExt cx="9159840" cy="1430280"/>
            </a:xfrm>
          </p:grpSpPr>
          <p:sp>
            <p:nvSpPr>
              <p:cNvPr id="163" name=""/>
              <p:cNvSpPr/>
              <p:nvPr/>
            </p:nvSpPr>
            <p:spPr>
              <a:xfrm>
                <a:off x="-936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-15840" y="0"/>
                <a:ext cx="9159840" cy="136440"/>
                <a:chOff x="-15840" y="0"/>
                <a:chExt cx="9159840" cy="1364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-158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-158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-7920" y="1219320"/>
                <a:ext cx="9144000" cy="210960"/>
                <a:chOff x="-7920" y="1219320"/>
                <a:chExt cx="9144000" cy="2109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-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-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7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d600"/>
                </a:solidFill>
                <a:latin typeface="Arial"/>
                <a:ea typeface="Times New Roman"/>
              </a:rPr>
              <a:t>13.1 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  <a:ea typeface="Times New Roman"/>
              </a:rPr>
              <a:t> Precambrian Time: Vast and Puzzling   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60360" y="21510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1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ecambrian Foss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1736640" y="2643120"/>
            <a:ext cx="708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most common Precambrian fossils are stromatoli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1736640" y="3438360"/>
            <a:ext cx="7081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omatoli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re distinctively layered mounds or columns of calcium carbonate. They are not the remains of actual organisms but are the material deposited by alga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1736640" y="4962600"/>
            <a:ext cx="708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y of these ancient fossils are preserved in chert—a hard dense chemical sedimentary rock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-15840" y="0"/>
            <a:ext cx="9159840" cy="6629400"/>
            <a:chOff x="-15840" y="0"/>
            <a:chExt cx="9159840" cy="6629400"/>
          </a:xfrm>
        </p:grpSpPr>
        <p:grpSp>
          <p:nvGrpSpPr>
            <p:cNvPr id="176" name=""/>
            <p:cNvGrpSpPr/>
            <p:nvPr/>
          </p:nvGrpSpPr>
          <p:grpSpPr>
            <a:xfrm>
              <a:off x="304920" y="1523880"/>
              <a:ext cx="8534160" cy="5105520"/>
              <a:chOff x="304920" y="1523880"/>
              <a:chExt cx="8534160" cy="5105520"/>
            </a:xfrm>
          </p:grpSpPr>
          <p:sp>
            <p:nvSpPr>
              <p:cNvPr id="177" name=""/>
              <p:cNvSpPr/>
              <p:nvPr/>
            </p:nvSpPr>
            <p:spPr>
              <a:xfrm>
                <a:off x="30492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009800" y="1638360"/>
                <a:ext cx="3161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Early Paleozoic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-15840" y="0"/>
              <a:ext cx="9159840" cy="1430280"/>
              <a:chOff x="-15840" y="0"/>
              <a:chExt cx="9159840" cy="1430280"/>
            </a:xfrm>
          </p:grpSpPr>
          <p:sp>
            <p:nvSpPr>
              <p:cNvPr id="180" name=""/>
              <p:cNvSpPr/>
              <p:nvPr/>
            </p:nvSpPr>
            <p:spPr>
              <a:xfrm>
                <a:off x="-936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" name=""/>
              <p:cNvGrpSpPr/>
              <p:nvPr/>
            </p:nvGrpSpPr>
            <p:grpSpPr>
              <a:xfrm>
                <a:off x="-15840" y="0"/>
                <a:ext cx="9159840" cy="136440"/>
                <a:chOff x="-15840" y="0"/>
                <a:chExt cx="9159840" cy="13644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-158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-158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-7920" y="1219320"/>
                <a:ext cx="9144000" cy="210960"/>
                <a:chOff x="-7920" y="1219320"/>
                <a:chExt cx="9144000" cy="21096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-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-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d600"/>
                </a:solidFill>
                <a:latin typeface="Arial"/>
                <a:ea typeface="Times New Roman"/>
              </a:rPr>
              <a:t>13.2 </a:t>
            </a:r>
            <a:r>
              <a:rPr b="1" lang="en-US" sz="4300" spc="-1" strike="noStrike">
                <a:solidFill>
                  <a:srgbClr val="ffffff"/>
                </a:solidFill>
                <a:latin typeface="Arial"/>
                <a:ea typeface="Times New Roman"/>
              </a:rPr>
              <a:t> Paleozoic Era: Life Explodes   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60360" y="2151000"/>
            <a:ext cx="7635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1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llowing the long Precambrian, the most recent 540 million years of Earth’s history are divided into three eras: Paleozoic, Mesozoic, and Cenozoi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4b5e0"/>
            </a:gs>
            <a:gs pos="50000">
              <a:srgbClr val="6d7895"/>
            </a:gs>
            <a:gs pos="100000">
              <a:srgbClr val="a4b5e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-15840" y="0"/>
            <a:ext cx="9159840" cy="6629400"/>
            <a:chOff x="-15840" y="0"/>
            <a:chExt cx="9159840" cy="6629400"/>
          </a:xfrm>
        </p:grpSpPr>
        <p:grpSp>
          <p:nvGrpSpPr>
            <p:cNvPr id="190" name=""/>
            <p:cNvGrpSpPr/>
            <p:nvPr/>
          </p:nvGrpSpPr>
          <p:grpSpPr>
            <a:xfrm>
              <a:off x="304920" y="1523880"/>
              <a:ext cx="8534160" cy="5105520"/>
              <a:chOff x="304920" y="1523880"/>
              <a:chExt cx="8534160" cy="5105520"/>
            </a:xfrm>
          </p:grpSpPr>
          <p:sp>
            <p:nvSpPr>
              <p:cNvPr id="191" name=""/>
              <p:cNvSpPr/>
              <p:nvPr/>
            </p:nvSpPr>
            <p:spPr>
              <a:xfrm>
                <a:off x="304920" y="1523880"/>
                <a:ext cx="8534160" cy="5105520"/>
              </a:xfrm>
              <a:prstGeom prst="roundRect">
                <a:avLst>
                  <a:gd name="adj" fmla="val 2213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009800" y="1638360"/>
                <a:ext cx="3161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8000"/>
                    </a:solidFill>
                    <a:latin typeface="Arial"/>
                    <a:ea typeface="Times New Roman"/>
                  </a:rPr>
                  <a:t>Early Paleozoic</a:t>
                </a:r>
                <a:endParaRPr b="0" lang="en-US" sz="3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-15840" y="0"/>
              <a:ext cx="9159840" cy="1430280"/>
              <a:chOff x="-15840" y="0"/>
              <a:chExt cx="9159840" cy="1430280"/>
            </a:xfrm>
          </p:grpSpPr>
          <p:sp>
            <p:nvSpPr>
              <p:cNvPr id="194" name=""/>
              <p:cNvSpPr/>
              <p:nvPr/>
            </p:nvSpPr>
            <p:spPr>
              <a:xfrm>
                <a:off x="-9360" y="0"/>
                <a:ext cx="9144000" cy="1219320"/>
              </a:xfrm>
              <a:prstGeom prst="rect">
                <a:avLst/>
              </a:prstGeom>
              <a:solidFill>
                <a:srgbClr val="d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5" name=""/>
              <p:cNvGrpSpPr/>
              <p:nvPr/>
            </p:nvGrpSpPr>
            <p:grpSpPr>
              <a:xfrm>
                <a:off x="-15840" y="0"/>
                <a:ext cx="9159840" cy="136440"/>
                <a:chOff x="-15840" y="0"/>
                <a:chExt cx="9159840" cy="13644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-15840" y="0"/>
                  <a:ext cx="915984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-15840" y="44280"/>
                  <a:ext cx="9159840" cy="92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360" bIns="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-7920" y="1219320"/>
                <a:ext cx="9144000" cy="210960"/>
                <a:chOff x="-7920" y="1219320"/>
                <a:chExt cx="9144000" cy="21096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-7920" y="1219320"/>
                  <a:ext cx="9144000" cy="0"/>
                </a:xfrm>
                <a:prstGeom prst="line">
                  <a:avLst/>
                </a:prstGeom>
                <a:ln w="10152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-7920" y="1247760"/>
                  <a:ext cx="9144000" cy="182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23744"/>
                    </a:gs>
                    <a:gs pos="100000">
                      <a:srgbClr val="6d7895">
                        <a:alpha val="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d600"/>
                </a:solidFill>
                <a:latin typeface="Arial"/>
                <a:ea typeface="Times New Roman"/>
              </a:rPr>
              <a:t>13.2 </a:t>
            </a:r>
            <a:r>
              <a:rPr b="1" lang="en-US" sz="4300" spc="-1" strike="noStrike">
                <a:solidFill>
                  <a:srgbClr val="ffffff"/>
                </a:solidFill>
                <a:latin typeface="Arial"/>
                <a:ea typeface="Times New Roman"/>
              </a:rPr>
              <a:t> Paleozoic Era: Life Explodes   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60360" y="2151000"/>
            <a:ext cx="763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89700"/>
                </a:solidFill>
                <a:latin typeface="Wingdings"/>
                <a:ea typeface="Wingdings"/>
              </a:rPr>
              <a:t></a:t>
            </a:r>
            <a:r>
              <a:rPr b="1" lang="en-US" sz="2800" spc="-1" strike="noStrike">
                <a:solidFill>
                  <a:srgbClr val="3897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arly Paleozoic His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1736640" y="2643120"/>
            <a:ext cx="703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•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uring the Cambrian, Ordovician, and Silurian periods, the vast southern continent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ondwa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ncompassed five continents (South America, Africa, Australia, Antarctica, and part of Asi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00:31:17Z</dcterms:created>
  <dc:creator>Stan &amp; Cindy Hatfield</dc:creator>
  <dc:description/>
  <dc:language>en-US</dc:language>
  <cp:lastModifiedBy>Navta 12</cp:lastModifiedBy>
  <cp:lastPrinted>2004-09-17T19:36:04Z</cp:lastPrinted>
  <dcterms:modified xsi:type="dcterms:W3CDTF">2004-10-28T15:00:25Z</dcterms:modified>
  <cp:revision>649</cp:revision>
  <dc:subject/>
  <dc:title>Volcanoes and Igneous Activity  Earth  -  Chapter 4</dc:title>
</cp:coreProperties>
</file>